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57.png" ContentType="image/png"/>
  <Override PartName="/ppt/media/image56.png" ContentType="image/png"/>
  <Override PartName="/ppt/media/image55.png" ContentType="image/png"/>
  <Override PartName="/ppt/media/image69.pct" ContentType="image/x-pict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9.png" ContentType="image/png"/>
  <Override PartName="/ppt/media/image48.png" ContentType="image/png"/>
  <Override PartName="/ppt/media/image45.png" ContentType="image/png"/>
  <Override PartName="/ppt/media/image44.png" ContentType="image/png"/>
  <Override PartName="/ppt/media/image46.png" ContentType="image/png"/>
  <Override PartName="/ppt/media/image43.pct" ContentType="image/x-pict"/>
  <Override PartName="/ppt/media/image42.png" ContentType="image/png"/>
  <Override PartName="/ppt/media/image41.png" ContentType="image/png"/>
  <Override PartName="/ppt/media/image40.png" ContentType="image/png"/>
  <Override PartName="/ppt/media/image19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20.pct" ContentType="image/x-pict"/>
  <Override PartName="/ppt/media/image60.png" ContentType="image/png"/>
  <Override PartName="/ppt/media/image74.pct" ContentType="image/x-pict"/>
  <Override PartName="/ppt/media/image12.pct" ContentType="image/x-pict"/>
  <Override PartName="/ppt/media/image61.png" ContentType="image/png"/>
  <Override PartName="/ppt/media/image75.pct" ContentType="image/x-pict"/>
  <Override PartName="/ppt/media/image13.pct" ContentType="image/x-pict"/>
  <Override PartName="/ppt/media/image77.pct" ContentType="image/x-pict"/>
  <Override PartName="/ppt/media/image68.png" ContentType="image/png"/>
  <Override PartName="/ppt/media/image31.png" ContentType="image/png"/>
  <Override PartName="/ppt/media/image73.pct" ContentType="image/x-pict"/>
  <Override PartName="/ppt/media/image47.png" ContentType="image/png"/>
  <Override PartName="/ppt/media/image10.png" ContentType="image/png"/>
  <Override PartName="/ppt/media/image1.jpeg" ContentType="image/jpeg"/>
  <Override PartName="/ppt/media/image72.pct" ContentType="image/x-pict"/>
  <Override PartName="/ppt/media/image71.pct" ContentType="image/x-pict"/>
  <Override PartName="/ppt/media/image70.pct" ContentType="image/x-pict"/>
  <Override PartName="/ppt/media/image67.png" ContentType="image/png"/>
  <Override PartName="/ppt/media/image30.png" ContentType="image/png"/>
  <Override PartName="/ppt/media/image62.png" ContentType="image/png"/>
  <Override PartName="/ppt/media/image76.pct" ContentType="image/x-pict"/>
  <Override PartName="/ppt/media/image66.png" ContentType="image/png"/>
  <Override PartName="/ppt/media/image63.pct" ContentType="image/x-pict"/>
  <Override PartName="/ppt/media/image5.png" ContentType="image/png"/>
  <Override PartName="/ppt/media/image35.png" ContentType="image/png"/>
  <Override PartName="/ppt/media/image65.png" ContentType="image/png"/>
  <Override PartName="/ppt/media/image64.png" ContentType="image/png"/>
  <Override PartName="/ppt/media/image78.pct" ContentType="image/x-pict"/>
  <Override PartName="/ppt/media/image28.png" ContentType="image/png"/>
  <Override PartName="/ppt/media/image26.png" ContentType="image/png"/>
  <Override PartName="/ppt/media/image17.jpeg" ContentType="image/jpeg"/>
  <Override PartName="/ppt/media/image2.pct" ContentType="image/x-pict"/>
  <Override PartName="/ppt/media/image14.pct" ContentType="image/x-pict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7.jpeg" ContentType="image/jpeg"/>
  <Override PartName="/ppt/media/image4.png" ContentType="image/png"/>
  <Override PartName="/ppt/media/image34.png" ContentType="image/png"/>
  <Override PartName="/ppt/media/image29.png" ContentType="image/png"/>
  <Override PartName="/ppt/media/image36.png" ContentType="image/png"/>
  <Override PartName="/ppt/media/image18.png" ContentType="image/png"/>
  <Override PartName="/ppt/media/image6.png" ContentType="image/png"/>
  <Override PartName="/ppt/media/image21.pct" ContentType="image/x-pict"/>
  <Override PartName="/ppt/media/image11.jpeg" ContentType="image/jpeg"/>
  <Override PartName="/ppt/media/image24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25.png" ContentType="image/png"/>
  <Override PartName="/ppt/media/image32.png" ContentType="image/png"/>
  <Override PartName="/ppt/media/image37.png" ContentType="image/png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A29D-3527-4556-B129-52E68017F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73EE-66C2-42DC-8E05-FD2A877F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28A9-A0AA-45DA-9C2B-5E121251A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7012-D9E5-4866-A81F-F29C5D9A4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83E6-BAB1-4B38-9164-8704648F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F68C-9056-40A8-982A-AC75E28A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69D0-E0C0-4424-8436-C3C0307F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45C7-C505-4B6F-9397-B0301F90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0CA5-DEEB-405F-AA24-976D4386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746D-3AAD-4A77-B030-8EE57D59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2623-380A-4256-B5F6-0FBB30D4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A946-121F-4A3F-9BE2-B9959922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FA14-ED3D-4950-9DB9-840E57BBF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Cellsalive.com/" TargetMode="Externa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hyperlink" Target="http://illuminations.nctm.org/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hodor.org/interactivate/activities/" TargetMode="External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hodor.org/interactivate/elementary/index.html" TargetMode="External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hyperlink" Target="http://www.shodor.org/interactivate/activities/transform/index.html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hyperlink" Target="http://www.colby.edu/personal/b/bknelson/exercises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hyperlink" Target="http://www.uen.org/utahlink/tours/" TargetMode="External"/><Relationship Id="rId3" Type="http://schemas.openxmlformats.org/officeDocument/2006/relationships/image" Target="../media/image33.png"/><Relationship Id="rId4" Type="http://schemas.openxmlformats.org/officeDocument/2006/relationships/hyperlink" Target="http://www.areavibes.com/library/online-field-trips-for-students/" TargetMode="External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sandiegozoo.org/zoo/ex_panda_station.html" TargetMode="External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hyperlink" Target="http://www.yellowstone-natl-park.com/wolf.htm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pct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hyperlink" Target="http://www.google.com/" TargetMode="Externa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hyperlink" Target="http://www.thegateway.org/" TargetMode="Externa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ali.apple.com/ali/resources.shtml" TargetMode="External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hyperlink" Target="http://www.ideas.wisconsin.edu/" TargetMode="Externa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hyperlink" Target="http://www2.dpi.state.wi.us/sig/practices/high_2.asp" TargetMode="External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hyperlink" Target="http://wisc-online.com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hyperlink" Target="http://www.merlot.org/" TargetMode="Externa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hyperlink" Target="http://loc.gov/" TargetMode="Externa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hyperlink" Target="http://uwdc.library.wisc.edu/collections.html" TargetMode="External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3.pct"/><Relationship Id="rId3" Type="http://schemas.openxmlformats.org/officeDocument/2006/relationships/hyperlink" Target="http://www.teachingbooks.net/" TargetMode="Externa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hyperlink" Target="http://www.teachingbooks.net/athr_upcls.cgi" TargetMode="Externa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hyperlink" Target="http://www.teachingbooks.net/search.cgi" TargetMode="External"/><Relationship Id="rId3" Type="http://schemas.openxmlformats.org/officeDocument/2006/relationships/hyperlink" Target="http://www.teachingbooks.net/spec_athr.cgi?name=Ryan,%20Pam%20Mu&amp;%23241;oz" TargetMode="External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hyperlink" Target="http://www.nasa.gov/home/" TargetMode="Externa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9.pct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0.pct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http://www.seaworld.org/animal-info/index.htm" TargetMode="External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1.pct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2.pct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3.pct"/><Relationship Id="rId2" Type="http://schemas.openxmlformats.org/officeDocument/2006/relationships/image" Target="../media/image74.pct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5.pct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6.pct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7.pct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8.pct"/><Relationship Id="rId2" Type="http://schemas.openxmlformats.org/officeDocument/2006/relationships/hyperlink" Target="mailto:Cramer@uwosh.edu" TargetMode="External"/><Relationship Id="rId3" Type="http://schemas.openxmlformats.org/officeDocument/2006/relationships/hyperlink" Target="http://asimov.coehs.uwosh.edu/~cramer/" TargetMode="External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edweek.org/sreports/tc98/ets/ets-n.htm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i.umich.edu/chico/instrument/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science.howstuffworks.com/fuel-cell2.ht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hyperlink" Target="http://ellisisland.org/immexp/wseix_2_3.asp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ushmm.org/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arning Objects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Enrich Your Classro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2971440"/>
            <a:ext cx="5486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san Cramer -- UW Oshko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 Ann Carr -- UW Mad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6324480" y="1981080"/>
            <a:ext cx="2419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010640" cy="6021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1752480" y="64008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ushmm.org/museum/exhibit/online/phistorie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440" y="380880"/>
            <a:ext cx="79246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mon thread to all these instructional materials is they support student learning, are available on the Internet, and can be used in a variety of contexts depending upon the intended learning outcom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5754600" y="3048120"/>
            <a:ext cx="2473560" cy="28000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685800" y="3151080"/>
            <a:ext cx="4343400" cy="39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likewise can be used by multiple people in multiple locations simultaneously, and can be accessed over and over without time or location constrain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6"/>
          <p:cNvSpPr/>
          <p:nvPr/>
        </p:nvSpPr>
        <p:spPr>
          <a:xfrm>
            <a:off x="101520" y="2376360"/>
            <a:ext cx="5910480" cy="36687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09480" y="5335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can be presented to an entire class but their true power comes when individual students access the materials to support their current learning nee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5562720" y="2743200"/>
            <a:ext cx="2589120" cy="26668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609480" y="2819520"/>
            <a:ext cx="441972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d the teacher say today about mitosis? I know, I can go to these websites and review the concept myself until I understand i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llsal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b4099"/>
                </a:solidFill>
                <a:uFillTx/>
                <a:latin typeface="Times New Roman"/>
                <a:hlinkClick r:id="rId1"/>
              </a:rPr>
              <a:t>http://Cellsalive.com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 great site for illustrating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6095880" cy="42163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6781680" y="1295280"/>
            <a:ext cx="23623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iosis, mitosis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 biology, microbiology, immunology, microscopy, plant cells, animal cells and m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torials and simulations are most helpful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43600" y="3733560"/>
            <a:ext cx="27432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enough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in tim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for you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81816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47960" y="1752120"/>
            <a:ext cx="38098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thematics, two great sources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mination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od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next pa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-38160" y="25560"/>
            <a:ext cx="9182160" cy="1334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3619440" cy="46609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5366520" y="6400800"/>
            <a:ext cx="37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b4099"/>
                </a:solidFill>
                <a:uFillTx/>
                <a:latin typeface="Times New Roman"/>
                <a:hlinkClick r:id="rId3"/>
              </a:rPr>
              <a:t>http://illuminations.nctm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191120" y="6400440"/>
            <a:ext cx="57909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b4099"/>
                </a:solidFill>
                <a:uFillTx/>
                <a:latin typeface="Times New Roman"/>
                <a:hlinkClick r:id="rId1"/>
              </a:rPr>
              <a:t>http://www.shodor.org/interactivate/activitie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304920" y="0"/>
            <a:ext cx="8369280" cy="6485040"/>
          </a:xfrm>
          <a:prstGeom prst="rect">
            <a:avLst/>
          </a:prstGeom>
          <a:ln w="0">
            <a:noFill/>
          </a:ln>
        </p:spPr>
      </p:pic>
      <p:sp>
        <p:nvSpPr>
          <p:cNvPr id="107" name="Line 5"/>
          <p:cNvSpPr/>
          <p:nvPr/>
        </p:nvSpPr>
        <p:spPr>
          <a:xfrm>
            <a:off x="8305920" y="6095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64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b4099"/>
                </a:solidFill>
                <a:uFillTx/>
                <a:latin typeface="Times New Roman"/>
                <a:hlinkClick r:id="rId1"/>
              </a:rPr>
              <a:t>http://www.shodor.org/interactivate/elementary/index.htm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5181480" y="228600"/>
            <a:ext cx="3530880" cy="1600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3"/>
          <a:stretch/>
        </p:blipFill>
        <p:spPr>
          <a:xfrm>
            <a:off x="0" y="228600"/>
            <a:ext cx="5016600" cy="78732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8"/>
          <p:cNvGrpSpPr/>
          <p:nvPr/>
        </p:nvGrpSpPr>
        <p:grpSpPr>
          <a:xfrm>
            <a:off x="228600" y="1905120"/>
            <a:ext cx="8915400" cy="4368600"/>
            <a:chOff x="228600" y="1905120"/>
            <a:chExt cx="8915400" cy="4368600"/>
          </a:xfrm>
        </p:grpSpPr>
        <p:pic>
          <p:nvPicPr>
            <p:cNvPr id="112" name="Picture 6" descr=""/>
            <p:cNvPicPr/>
            <p:nvPr/>
          </p:nvPicPr>
          <p:blipFill>
            <a:blip r:embed="rId4"/>
            <a:stretch/>
          </p:blipFill>
          <p:spPr>
            <a:xfrm>
              <a:off x="228600" y="1905120"/>
              <a:ext cx="8864640" cy="43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Line 7"/>
            <p:cNvSpPr/>
            <p:nvPr/>
          </p:nvSpPr>
          <p:spPr>
            <a:xfrm>
              <a:off x="380880" y="6248520"/>
              <a:ext cx="8763120" cy="0"/>
            </a:xfrm>
            <a:prstGeom prst="line">
              <a:avLst/>
            </a:prstGeom>
            <a:ln w="190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Line 9"/>
          <p:cNvSpPr/>
          <p:nvPr/>
        </p:nvSpPr>
        <p:spPr>
          <a:xfrm>
            <a:off x="7924680" y="6324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8" descr=""/>
          <p:cNvPicPr/>
          <p:nvPr/>
        </p:nvPicPr>
        <p:blipFill>
          <a:blip r:embed="rId1"/>
          <a:stretch/>
        </p:blipFill>
        <p:spPr>
          <a:xfrm>
            <a:off x="609480" y="60480"/>
            <a:ext cx="8001000" cy="67467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9"/>
          <p:cNvSpPr/>
          <p:nvPr/>
        </p:nvSpPr>
        <p:spPr>
          <a:xfrm rot="5400000">
            <a:off x="6311880" y="3336120"/>
            <a:ext cx="5334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2b4099"/>
                </a:solidFill>
                <a:uFillTx/>
                <a:latin typeface="Times New Roman"/>
                <a:hlinkClick r:id="rId2"/>
              </a:rPr>
              <a:t>http://www.shodor.org/interactivate/activities/transform/index.htm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lish language learners as well as students studying other languages can get help with how to pronounce a word or translation right on the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534160" cy="48704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6"/>
          <p:cNvSpPr/>
          <p:nvPr/>
        </p:nvSpPr>
        <p:spPr>
          <a:xfrm>
            <a:off x="2187360" y="6400800"/>
            <a:ext cx="69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b4099"/>
                </a:solidFill>
                <a:uFillTx/>
                <a:latin typeface="Times New Roman"/>
                <a:hlinkClick r:id="rId2"/>
              </a:rPr>
              <a:t>http://www.colby.edu/personal/b/bknelson/exercises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learning objec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ctional materials found on the Internet that can be used to illustrate, support, supplement or assess student learn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are small in size, and can take on a variety of different shapes, formats, and purpo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5562720" y="4267080"/>
            <a:ext cx="317016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6527880" cy="13716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743200" y="3047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2b4099"/>
                </a:solidFill>
                <a:uFillTx/>
                <a:latin typeface="Times New Roman"/>
                <a:hlinkClick r:id="rId2"/>
              </a:rPr>
              <a:t>http://www.uen.org/utahlink/tours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1676520" y="469800"/>
            <a:ext cx="7226280" cy="18162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8"/>
          <p:cNvSpPr/>
          <p:nvPr/>
        </p:nvSpPr>
        <p:spPr>
          <a:xfrm>
            <a:off x="76320" y="76320"/>
            <a:ext cx="6781680" cy="4597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, you can travel the world from your class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380880" y="58672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b4099"/>
                </a:solidFill>
                <a:uFillTx/>
                <a:latin typeface="Times New Roman"/>
                <a:hlinkClick r:id="rId4"/>
              </a:rPr>
              <a:t>http://www.areavibes.com/library/online-field-trips-for-student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5"/>
          <a:stretch/>
        </p:blipFill>
        <p:spPr>
          <a:xfrm>
            <a:off x="838080" y="4038480"/>
            <a:ext cx="586764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5943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b4099"/>
                </a:solidFill>
                <a:uFillTx/>
                <a:latin typeface="Times New Roman"/>
                <a:hlinkClick r:id="rId1"/>
              </a:rPr>
              <a:t>http://www.sandiegozoo.org/zoo/ex_panda_station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1523880" y="533520"/>
            <a:ext cx="6172200" cy="1224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"/>
          <p:cNvPicPr/>
          <p:nvPr/>
        </p:nvPicPr>
        <p:blipFill>
          <a:blip r:embed="rId3"/>
          <a:stretch/>
        </p:blipFill>
        <p:spPr>
          <a:xfrm>
            <a:off x="6781680" y="2819520"/>
            <a:ext cx="1270080" cy="1269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4"/>
          <a:stretch/>
        </p:blipFill>
        <p:spPr>
          <a:xfrm>
            <a:off x="1219320" y="2819520"/>
            <a:ext cx="1269720" cy="1269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5"/>
          <a:stretch/>
        </p:blipFill>
        <p:spPr>
          <a:xfrm>
            <a:off x="2971800" y="383544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"/>
          <p:cNvPicPr/>
          <p:nvPr/>
        </p:nvPicPr>
        <p:blipFill>
          <a:blip r:embed="rId6"/>
          <a:stretch/>
        </p:blipFill>
        <p:spPr>
          <a:xfrm>
            <a:off x="7543800" y="101592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"/>
          <p:cNvPicPr/>
          <p:nvPr/>
        </p:nvPicPr>
        <p:blipFill>
          <a:blip r:embed="rId7"/>
          <a:stretch/>
        </p:blipFill>
        <p:spPr>
          <a:xfrm>
            <a:off x="5029200" y="383544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"/>
          <p:cNvPicPr/>
          <p:nvPr/>
        </p:nvPicPr>
        <p:blipFill>
          <a:blip r:embed="rId8"/>
          <a:stretch/>
        </p:blipFill>
        <p:spPr>
          <a:xfrm>
            <a:off x="380880" y="990720"/>
            <a:ext cx="1295640" cy="12952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1"/>
          <p:cNvSpPr/>
          <p:nvPr/>
        </p:nvSpPr>
        <p:spPr>
          <a:xfrm>
            <a:off x="2819520" y="228600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n Diego Zo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533520" y="380880"/>
            <a:ext cx="50292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ellowstone National Par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olf news, sightings, history, packs, captive wolves, a wolf map, and audio clip of a wolf howl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5842080" y="533520"/>
            <a:ext cx="2692440" cy="39751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"/>
          <p:cNvSpPr/>
          <p:nvPr/>
        </p:nvSpPr>
        <p:spPr>
          <a:xfrm>
            <a:off x="2741400" y="6400800"/>
            <a:ext cx="640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2b4099"/>
                </a:solidFill>
                <a:uFillTx/>
                <a:latin typeface="Times New Roman"/>
                <a:hlinkClick r:id="rId2"/>
              </a:rPr>
              <a:t>http://www.yellowstone-natl-park.com/wolf.ht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09480" y="609480"/>
            <a:ext cx="33530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w, these are great resourc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we find the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’s lots of stuff out there and I don’t have much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4724280" y="762120"/>
            <a:ext cx="37674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can find learning objects in a myriad of locations. A Google search on “learning objects” done as this presentation was being written returned 79 million hits. A second search using “learning objects fractions” yielded 2.47 million hits while “learning objects fractions middle school” yielded 1.3 million hi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4267080" y="3962520"/>
            <a:ext cx="4267440" cy="1778040"/>
          </a:xfrm>
          <a:prstGeom prst="rect">
            <a:avLst/>
          </a:prstGeom>
          <a:ln w="0">
            <a:noFill/>
          </a:ln>
        </p:spPr>
      </p:pic>
      <p:grpSp>
        <p:nvGrpSpPr>
          <p:cNvPr id="142" name="Group 13"/>
          <p:cNvGrpSpPr/>
          <p:nvPr/>
        </p:nvGrpSpPr>
        <p:grpSpPr>
          <a:xfrm>
            <a:off x="380880" y="3657600"/>
            <a:ext cx="4038840" cy="2590920"/>
            <a:chOff x="380880" y="3657600"/>
            <a:chExt cx="4038840" cy="2590920"/>
          </a:xfrm>
        </p:grpSpPr>
        <p:sp>
          <p:nvSpPr>
            <p:cNvPr id="143" name="Rectangle 12"/>
            <p:cNvSpPr/>
            <p:nvPr/>
          </p:nvSpPr>
          <p:spPr>
            <a:xfrm>
              <a:off x="380880" y="3657600"/>
              <a:ext cx="3581640" cy="25909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6"/>
            <p:cNvSpPr/>
            <p:nvPr/>
          </p:nvSpPr>
          <p:spPr>
            <a:xfrm>
              <a:off x="380880" y="4038480"/>
              <a:ext cx="1524240" cy="93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500" spc="-1" strike="noStrike">
                  <a:solidFill>
                    <a:srgbClr val="000000"/>
                  </a:solidFill>
                  <a:latin typeface="Sand"/>
                </a:rPr>
                <a:t>1/4</a:t>
              </a:r>
              <a:endParaRPr b="0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7"/>
            <p:cNvSpPr/>
            <p:nvPr/>
          </p:nvSpPr>
          <p:spPr>
            <a:xfrm>
              <a:off x="2438280" y="5181480"/>
              <a:ext cx="1981440" cy="93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500" spc="-1" strike="noStrike">
                  <a:solidFill>
                    <a:srgbClr val="000000"/>
                  </a:solidFill>
                  <a:latin typeface="Gill Sans Ultra Bold"/>
                </a:rPr>
                <a:t>1/3</a:t>
              </a:r>
              <a:endParaRPr b="0" lang="en-US" sz="5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8"/>
            <p:cNvSpPr/>
            <p:nvPr/>
          </p:nvSpPr>
          <p:spPr>
            <a:xfrm>
              <a:off x="914400" y="5181480"/>
              <a:ext cx="1905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Optima ExtraBlack"/>
                </a:rPr>
                <a:t>5/8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Group 11"/>
            <p:cNvGrpSpPr/>
            <p:nvPr/>
          </p:nvGrpSpPr>
          <p:grpSpPr>
            <a:xfrm>
              <a:off x="2209680" y="3809880"/>
              <a:ext cx="685800" cy="1295640"/>
              <a:chOff x="2209680" y="3809880"/>
              <a:chExt cx="685800" cy="1295640"/>
            </a:xfrm>
          </p:grpSpPr>
          <p:sp>
            <p:nvSpPr>
              <p:cNvPr id="148" name="WordArt 9"/>
              <p:cNvSpPr txBox="1"/>
              <p:nvPr/>
            </p:nvSpPr>
            <p:spPr>
              <a:xfrm>
                <a:off x="2209680" y="3809880"/>
                <a:ext cx="609480" cy="129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7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15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49" name="Line 10"/>
              <p:cNvSpPr/>
              <p:nvPr/>
            </p:nvSpPr>
            <p:spPr>
              <a:xfrm>
                <a:off x="2209680" y="4419720"/>
                <a:ext cx="6858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0" name="Rectangle 14"/>
          <p:cNvSpPr/>
          <p:nvPr/>
        </p:nvSpPr>
        <p:spPr>
          <a:xfrm>
            <a:off x="5979600" y="6400800"/>
            <a:ext cx="31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b4099"/>
                </a:solidFill>
                <a:uFillTx/>
                <a:latin typeface="Times New Roman"/>
                <a:hlinkClick r:id="rId2"/>
              </a:rPr>
              <a:t>http://www.google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ateway to Educational Materials (GEM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A Consortium effort to provide educators with quick and easy access to thousands of educational resources found on various federal, state, university, non-profit, and commercial Internet sites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s detailed descriptions of over 49,000 educational resour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8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686800" cy="14223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9"/>
          <p:cNvSpPr/>
          <p:nvPr/>
        </p:nvSpPr>
        <p:spPr>
          <a:xfrm>
            <a:off x="5624640" y="6384960"/>
            <a:ext cx="35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b4099"/>
                </a:solidFill>
                <a:uFillTx/>
                <a:latin typeface="Times New Roman"/>
                <a:hlinkClick r:id="rId2"/>
              </a:rPr>
              <a:t>http://www.thegatewa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371600" y="6248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b4099"/>
                </a:solidFill>
                <a:uFillTx/>
                <a:latin typeface="Times New Roman"/>
                <a:hlinkClick r:id="rId1"/>
              </a:rPr>
              <a:t>http://ali.apple.com/ali/resources.s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762120" y="228600"/>
            <a:ext cx="8140680" cy="18162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762120" y="2209680"/>
            <a:ext cx="525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ew Full Coll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ing Practices (44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on Ideas (103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tual Field Trips (72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Documentaries (3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hip Practices (9 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Growth Programming (14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t Profiles (2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ational Profiles 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ology Showcases (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3"/>
          <a:stretch/>
        </p:blipFill>
        <p:spPr>
          <a:xfrm rot="1686600">
            <a:off x="4038120" y="3504960"/>
            <a:ext cx="534672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7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267760" cy="11430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8"/>
          <p:cNvSpPr/>
          <p:nvPr/>
        </p:nvSpPr>
        <p:spPr>
          <a:xfrm>
            <a:off x="304920" y="1447920"/>
            <a:ext cx="8153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For Resources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K, K, 1, 2, 3, 4, 5, 6, 7, 8, 9, 10, 11, 12, Higher Ed., Adult/Continuing 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 Arts, Math, Science, Social Studies, Information and Technology Literacy, Art and Design Education, Music Education, Environmental Education, More subject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sconsin Model Academic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 Arts: Grade 4, Grade 8, Grade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h: Grade 4, Grade 8, Grade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4972320" y="6400800"/>
            <a:ext cx="41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b4099"/>
                </a:solidFill>
                <a:uFillTx/>
                <a:latin typeface="Times New Roman"/>
                <a:hlinkClick r:id="rId2"/>
              </a:rPr>
              <a:t>http://www.ideas.wisconsin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28240" y="1980720"/>
            <a:ext cx="5334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sconsin's Information Network for Successful Sch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20400" cy="1269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"/>
          <p:cNvPicPr/>
          <p:nvPr/>
        </p:nvPicPr>
        <p:blipFill>
          <a:blip r:embed="rId2"/>
          <a:stretch/>
        </p:blipFill>
        <p:spPr>
          <a:xfrm>
            <a:off x="3886200" y="1600200"/>
            <a:ext cx="4813200" cy="355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"/>
          <p:cNvPicPr/>
          <p:nvPr/>
        </p:nvPicPr>
        <p:blipFill>
          <a:blip r:embed="rId3"/>
          <a:stretch/>
        </p:blipFill>
        <p:spPr>
          <a:xfrm>
            <a:off x="5867280" y="1905120"/>
            <a:ext cx="2603520" cy="4622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7"/>
          <p:cNvSpPr/>
          <p:nvPr/>
        </p:nvSpPr>
        <p:spPr>
          <a:xfrm>
            <a:off x="228600" y="6035760"/>
            <a:ext cx="442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b4099"/>
                </a:solidFill>
                <a:uFillTx/>
                <a:latin typeface="Times New Roman"/>
                <a:hlinkClick r:id="rId4"/>
              </a:rPr>
              <a:t>http://www2.dpi.state.wi.us/sig/practices/high_2.a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28240" y="3124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sconsin Online Resource C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erials developed primarily by instructors from the Wisconsin Technical College Sys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, 025 objects online with 68 more in developm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228600" y="101520"/>
            <a:ext cx="8915400" cy="27939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2"/>
          <a:stretch/>
        </p:blipFill>
        <p:spPr>
          <a:xfrm>
            <a:off x="4915080" y="2819520"/>
            <a:ext cx="4228920" cy="26668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6"/>
          <p:cNvSpPr/>
          <p:nvPr/>
        </p:nvSpPr>
        <p:spPr>
          <a:xfrm>
            <a:off x="6121440" y="640080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b4099"/>
                </a:solidFill>
                <a:uFillTx/>
                <a:latin typeface="Times New Roman"/>
                <a:hlinkClick r:id="rId3"/>
              </a:rPr>
              <a:t>http://wisc-online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could be a picture of the water cycle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400800" cy="49086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5153760" y="6613560"/>
            <a:ext cx="398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ww.usgcrp.gov/usgcrp/images/ocp2003/WaterCycle-optimized.j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80520" y="3733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ks to support primarily higher education students and faculty with over 10,000 materials catalogu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que features are peer review, assignments, and member colle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228600" y="0"/>
            <a:ext cx="8686800" cy="36370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6"/>
          <p:cNvSpPr/>
          <p:nvPr/>
        </p:nvSpPr>
        <p:spPr>
          <a:xfrm>
            <a:off x="6029640" y="6384960"/>
            <a:ext cx="31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b4099"/>
                </a:solidFill>
                <a:uFillTx/>
                <a:latin typeface="Times New Roman"/>
                <a:hlinkClick r:id="rId2"/>
              </a:rPr>
              <a:t>http://www.merlot.org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6840" y="1752120"/>
            <a:ext cx="4343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brary of Con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fantastic materials including historic maps, photos, documents, audio and video clips, virtual tours of galleries, multilingual resources on world culture and mo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1"/>
          <a:stretch/>
        </p:blipFill>
        <p:spPr>
          <a:xfrm>
            <a:off x="4952880" y="457200"/>
            <a:ext cx="3900600" cy="562284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6"/>
          <p:cNvSpPr/>
          <p:nvPr/>
        </p:nvSpPr>
        <p:spPr>
          <a:xfrm>
            <a:off x="4876920" y="5470560"/>
            <a:ext cx="411480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http://memory.loc.gov/cgi-bin/query/D?cdn:19:./temp/~ammem_eb1T::@@@mdb=mcc,gottscho,detr,nfor,wpa,aap,cwar,bbpix,cowellbib,calbkbib,consrvbib,bdsbib,dag,fsaall,gmd,pan,vv,presp,varstg,suffrg,nawbib,horyd,wtc,toddbib,mgw,ncr,ngp,musdibib,hlaw,papr,lhbumbib,rbpebib,lbcoll,alad,hh,aaodyssey,magbell,bbcards,dcm,raelbib,runyon,dukesm,lomaxbib,mtj,gottlieb,aep,qlt,coolbib,fpnas,aasm,scsm,denn,relpet,amss,aaeo,mffbib,afc911bib,mjm,mnwp,rbcmillerbib,molden,ww2map,hawp,omhbib,rbaapcbib,mal,ncpsbib,ncpm,lhbprbib,ftvbib,afcreed,aipn,cwband,flwpabib,wpapos,cmns,psbib,pin,coplandbib,cola,tccc,curt,mharendt,lhbcbbib,eaa,haybib,mesnbib,fine,cwnyhs,svybib,mmorse,afcwwgbib,mymhiwebib,uncall,mfd,afcwip,mtaft,manz,llstbib,fawbib,berl,fmuever,cdn,upboverbib,mussm,cic,afcpearl,awh,awhbib,sgp,wright,lhbtnbib,afcesnbib,hurstonbib,mreynoldsbib,spaldingbib,sgprot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7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3429000" cy="83016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8"/>
          <p:cNvSpPr/>
          <p:nvPr/>
        </p:nvSpPr>
        <p:spPr>
          <a:xfrm>
            <a:off x="7241040" y="640080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b4099"/>
                </a:solidFill>
                <a:uFillTx/>
                <a:latin typeface="Times New Roman"/>
                <a:hlinkClick r:id="rId3"/>
              </a:rPr>
              <a:t>http://loc.gov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838080" y="4968720"/>
            <a:ext cx="3581640" cy="106740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iverfront in Milwaukee, Wisconsin, showing a bridge spanning the Milwaukee River near the Pabst buil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09120" y="4572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iversity of Wisconsin Digital Coll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s a wealth of digitized materials from the UW System libraries you can use to support instruction. A sample of collection titles includes Africa Focus: Sights and Sounds of a Continent, Great Lakes Maritime History Project, Icelandic Online Dictionary and Readings, Illustrated Shakespeare, SouthEast Asian Images and Texts, and Wisconsin Public Land Survey Records: Original Field No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473040" y="4343400"/>
            <a:ext cx="1219320" cy="17524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"/>
          <p:cNvPicPr/>
          <p:nvPr/>
        </p:nvPicPr>
        <p:blipFill>
          <a:blip r:embed="rId2"/>
          <a:stretch/>
        </p:blipFill>
        <p:spPr>
          <a:xfrm>
            <a:off x="1901880" y="4343400"/>
            <a:ext cx="1219320" cy="17524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"/>
          <p:cNvPicPr/>
          <p:nvPr/>
        </p:nvPicPr>
        <p:blipFill>
          <a:blip r:embed="rId3"/>
          <a:stretch/>
        </p:blipFill>
        <p:spPr>
          <a:xfrm>
            <a:off x="3330720" y="4343400"/>
            <a:ext cx="1218960" cy="1752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"/>
          <p:cNvPicPr/>
          <p:nvPr/>
        </p:nvPicPr>
        <p:blipFill>
          <a:blip r:embed="rId4"/>
          <a:stretch/>
        </p:blipFill>
        <p:spPr>
          <a:xfrm>
            <a:off x="4761000" y="4343400"/>
            <a:ext cx="1218960" cy="17524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"/>
          <p:cNvPicPr/>
          <p:nvPr/>
        </p:nvPicPr>
        <p:blipFill>
          <a:blip r:embed="rId5"/>
          <a:stretch/>
        </p:blipFill>
        <p:spPr>
          <a:xfrm>
            <a:off x="6189840" y="4343400"/>
            <a:ext cx="1218960" cy="17524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"/>
          <p:cNvPicPr/>
          <p:nvPr/>
        </p:nvPicPr>
        <p:blipFill>
          <a:blip r:embed="rId6"/>
          <a:stretch/>
        </p:blipFill>
        <p:spPr>
          <a:xfrm>
            <a:off x="7620120" y="4343400"/>
            <a:ext cx="1218960" cy="17524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1"/>
          <p:cNvSpPr/>
          <p:nvPr/>
        </p:nvSpPr>
        <p:spPr>
          <a:xfrm>
            <a:off x="3486240" y="6324480"/>
            <a:ext cx="566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b4099"/>
                </a:solidFill>
                <a:uFillTx/>
                <a:latin typeface="Times New Roman"/>
                <a:hlinkClick r:id="rId7"/>
              </a:rPr>
              <a:t>http://uwdc.library.wisc.edu/collection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28600" y="0"/>
          <a:ext cx="8610480" cy="609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6104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Text Box 4"/>
          <p:cNvSpPr/>
          <p:nvPr/>
        </p:nvSpPr>
        <p:spPr>
          <a:xfrm>
            <a:off x="5638680" y="640080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2b4099"/>
                </a:solidFill>
                <a:uFillTx/>
                <a:latin typeface="Times New Roman"/>
                <a:hlinkClick r:id="rId3"/>
              </a:rPr>
              <a:t>http://www.teachingbooks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-88920" y="838080"/>
            <a:ext cx="9232920" cy="53625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3"/>
          <p:cNvSpPr/>
          <p:nvPr/>
        </p:nvSpPr>
        <p:spPr>
          <a:xfrm>
            <a:off x="4848480" y="6469200"/>
            <a:ext cx="429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2b4099"/>
                </a:solidFill>
                <a:uFillTx/>
                <a:latin typeface="Times New Roman"/>
                <a:hlinkClick r:id="rId2"/>
              </a:rPr>
              <a:t>http://www.teachingbooks.net/athr_upcls.c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228600" y="22860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nect with an author 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63360" y="228600"/>
            <a:ext cx="8928360" cy="451476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3"/>
          <p:cNvSpPr/>
          <p:nvPr/>
        </p:nvSpPr>
        <p:spPr>
          <a:xfrm>
            <a:off x="3973680" y="5791320"/>
            <a:ext cx="51703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b4099"/>
                </a:solidFill>
                <a:uFillTx/>
                <a:latin typeface="Times New Roman"/>
                <a:hlinkClick r:id="rId2"/>
              </a:rPr>
              <a:t>http://www.teachingbooks.net/search.c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2b4099"/>
                </a:solidFill>
                <a:uFillTx/>
                <a:latin typeface="Times New Roman"/>
                <a:hlinkClick r:id="rId3"/>
              </a:rPr>
              <a:t>http://www.teachingbooks.net/spec_athr.cgi?name=Ryan%2C%20Pam%20Mu%26%23241%3Bo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4"/>
          <a:stretch/>
        </p:blipFill>
        <p:spPr>
          <a:xfrm>
            <a:off x="685800" y="4800600"/>
            <a:ext cx="1104840" cy="1422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"/>
          <p:cNvPicPr/>
          <p:nvPr/>
        </p:nvPicPr>
        <p:blipFill>
          <a:blip r:embed="rId5"/>
          <a:stretch/>
        </p:blipFill>
        <p:spPr>
          <a:xfrm>
            <a:off x="2057400" y="4737240"/>
            <a:ext cx="1587600" cy="19684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6"/>
          <p:cNvSpPr/>
          <p:nvPr/>
        </p:nvSpPr>
        <p:spPr>
          <a:xfrm>
            <a:off x="3809880" y="480060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ie with author speaking about 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ie of author reading 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04560" y="4724280"/>
            <a:ext cx="87627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S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so has available a wealth of instructional materi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6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8915400" cy="428940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7"/>
          <p:cNvSpPr/>
          <p:nvPr/>
        </p:nvSpPr>
        <p:spPr>
          <a:xfrm>
            <a:off x="5369400" y="6369120"/>
            <a:ext cx="37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 u="sng">
                <a:solidFill>
                  <a:srgbClr val="2b4099"/>
                </a:solidFill>
                <a:uFillTx/>
                <a:latin typeface="Times New Roman"/>
                <a:hlinkClick r:id="rId2"/>
              </a:rPr>
              <a:t>http://www.nasa.gov/home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t, does technology increase student learn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4648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archers report mixed findings but overall it has been found that “teaching and learning with technology has a small [.410], positive, significant (p&lt;.001) effect on student outcomes when compared to traditional instruction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3733920" y="60958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axman, Lin, Michko, 2003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6" descr=""/>
          <p:cNvPicPr/>
          <p:nvPr/>
        </p:nvPicPr>
        <p:blipFill>
          <a:blip r:embed="rId1"/>
          <a:stretch/>
        </p:blipFill>
        <p:spPr>
          <a:xfrm>
            <a:off x="5562720" y="1447920"/>
            <a:ext cx="292572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we think of using technology in the classroom, use can be divided into two different types. Learning “from” technology and learning “with” technolog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04920" y="627840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eeves 1998 cited in Ringstaff and Kelley, 200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5" descr=""/>
          <p:cNvPicPr/>
          <p:nvPr/>
        </p:nvPicPr>
        <p:blipFill>
          <a:blip r:embed="rId1"/>
          <a:stretch/>
        </p:blipFill>
        <p:spPr>
          <a:xfrm>
            <a:off x="3048120" y="2438280"/>
            <a:ext cx="34160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one learns “from” technolog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technology is acting as a tutor or teacher. Drill and practice software fits into this category as would a math fact game or the American Sign Language Dictionary site on the Internet. Use of these resources, learning objects, can lead to increased student learning.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Learning Return On Our Educational Technology Investment: A Review of Findings from Research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ngstaff and Kelley (2002) reported 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uter-assisted instruction and drill-and-practice software can significantly improve students’ scores on standardized achievement tes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Kulik, 1994; Sivin-Kachala &amp; Bialo, 2000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all major subject areas, preschool through higher edu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Coley, 1997)” (p. 5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1"/>
          <p:cNvSpPr/>
          <p:nvPr/>
        </p:nvSpPr>
        <p:spPr>
          <a:xfrm>
            <a:off x="152280" y="914400"/>
            <a:ext cx="8839440" cy="53341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3520" y="96516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a Worl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great site for information on marine mammals, other animals, fish, birds or eco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304920" y="2793960"/>
            <a:ext cx="3301920" cy="33019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286200" y="5334120"/>
            <a:ext cx="34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ttp://www.seaworld.org/animal-info/info-books/california-sea-lion/index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3657600" y="3327480"/>
            <a:ext cx="5029200" cy="2196360"/>
            <a:chOff x="3657600" y="3327480"/>
            <a:chExt cx="5029200" cy="2196360"/>
          </a:xfrm>
        </p:grpSpPr>
        <p:pic>
          <p:nvPicPr>
            <p:cNvPr id="55" name="Picture 4" descr=""/>
            <p:cNvPicPr/>
            <p:nvPr/>
          </p:nvPicPr>
          <p:blipFill>
            <a:blip r:embed="rId2"/>
            <a:stretch/>
          </p:blipFill>
          <p:spPr>
            <a:xfrm>
              <a:off x="3657600" y="3327480"/>
              <a:ext cx="5029200" cy="201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7"/>
            <p:cNvSpPr/>
            <p:nvPr/>
          </p:nvSpPr>
          <p:spPr>
            <a:xfrm>
              <a:off x="4862160" y="5308200"/>
              <a:ext cx="2745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http://www.seaworld.org/animal-info/sound-library/index.ht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Rectangle 9"/>
          <p:cNvSpPr/>
          <p:nvPr/>
        </p:nvSpPr>
        <p:spPr>
          <a:xfrm>
            <a:off x="3088800" y="6400800"/>
            <a:ext cx="605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b4099"/>
                </a:solidFill>
                <a:uFillTx/>
                <a:latin typeface="Times New Roman"/>
                <a:hlinkClick r:id="rId3"/>
              </a:rPr>
              <a:t>http://www.seaworld.org/animal-info/index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380880" y="2286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a website with all sorts of references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3352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nglinsky (1998 in Archer, 1998), in his study of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raders who took the math section of the 1996 National Assessment of Educational Progress, reported that “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raders whose teachers used instructional computers mostly for math/learning games posted an achievement gain equal to roughly 15 percent of a grade level” (p. 3). What is happening is that students ar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ilding fluency in a specific skil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1"/>
          <a:stretch/>
        </p:blipFill>
        <p:spPr>
          <a:xfrm>
            <a:off x="5943600" y="4073400"/>
            <a:ext cx="219384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arning “with” technology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nglinsky (1998 cited in Valdez, McNabb, Foertsch, Anderson, Hawkes &amp; Raack, 2000) found that “after adjusting for class size, teacher qualifications, and socioeconomics, … technology had more of an impact in middle schools than it did in elementary schools. He found tha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eighth grade, where computers were used for simulations and applications, students had higher test scor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n where computers were used for drill and practice. The differences were the equivalent of half a grade level.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1532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occurring is “’technology can facilitate deep exploration and integration of information, high-level thinking, and profound engagement by allowing students to design, explore, experiment, access information, and model complex phenomena’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6" descr=""/>
          <p:cNvPicPr/>
          <p:nvPr/>
        </p:nvPicPr>
        <p:blipFill>
          <a:blip r:embed="rId1"/>
          <a:stretch/>
        </p:blipFill>
        <p:spPr>
          <a:xfrm>
            <a:off x="5638680" y="2666880"/>
            <a:ext cx="2792520" cy="33512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7"/>
          <p:cNvSpPr/>
          <p:nvPr/>
        </p:nvSpPr>
        <p:spPr>
          <a:xfrm>
            <a:off x="838080" y="2587680"/>
            <a:ext cx="4419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new circumstances and opportunities – not the technology on its own – can have a direct and meaningful impact on student achievement” (Goldman, Cole, and Syer, 1999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ted in NCREL 1999, p. 6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ldman et al (cited in CEO Forum, 2001) found that students who employed simulations, microcomputer-based laboratories, and video to connect science instruction to real-world problems outperformed students who employed traditional instructional methods al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6049800" y="3200400"/>
            <a:ext cx="2345040" cy="3193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1295280" y="3276720"/>
            <a:ext cx="2441520" cy="304776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7"/>
          <p:cNvSpPr/>
          <p:nvPr/>
        </p:nvSpPr>
        <p:spPr>
          <a:xfrm>
            <a:off x="5638680" y="2895480"/>
            <a:ext cx="3276720" cy="3581640"/>
          </a:xfrm>
          <a:prstGeom prst="pie">
            <a:avLst/>
          </a:prstGeom>
          <a:solidFill>
            <a:srgbClr val="e35b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do students use and want to use technolog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use the Internet 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virtual textbook and referenc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brary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virtual tutor and stud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rtcu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rtual study group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rtual guidance counselor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rtual locker-backpack-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boo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1"/>
          <a:stretch/>
        </p:blipFill>
        <p:spPr>
          <a:xfrm>
            <a:off x="5929200" y="1219320"/>
            <a:ext cx="2718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t, what they find in schools is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al use of the Internet is most likely to occur outside of the school without direction of teach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eachers do integrate the Internet into schoolwork, the quality of the assignmen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ds to be poor and uninspir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, use of the Internet is not requir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use in homework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6" descr=""/>
          <p:cNvPicPr/>
          <p:nvPr/>
        </p:nvPicPr>
        <p:blipFill>
          <a:blip r:embed="rId1"/>
          <a:stretch/>
        </p:blipFill>
        <p:spPr>
          <a:xfrm>
            <a:off x="6332400" y="2666880"/>
            <a:ext cx="258300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09480" y="3808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the whole, “students are frustrated and increasingly dissatisfied by the digital disconnect they are experiencing at schoo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cannot conceive of doing schoolwork without Internet access yet they are not being given many opportunities in school to take advantage of the Internet” (Levin &amp; Arafeh, 2002, p. v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5562720" y="1066680"/>
            <a:ext cx="290484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533520" y="457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objects are one way to increase student learning and engagem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you waiting fo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your next un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learning objects can make i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e ali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6629400" y="609480"/>
            <a:ext cx="2187720" cy="464832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6"/>
          <p:cNvSpPr/>
          <p:nvPr/>
        </p:nvSpPr>
        <p:spPr>
          <a:xfrm>
            <a:off x="533520" y="3352680"/>
            <a:ext cx="6476760" cy="258084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l free to download this presentation for use in your school. If you do, please drop us an email so we can document its usage. Thank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2b4099"/>
                </a:solidFill>
                <a:uFillTx/>
                <a:latin typeface="Times New Roman"/>
                <a:hlinkClick r:id="rId2"/>
              </a:rPr>
              <a:t>Cramer@uwosh.edu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2b4099"/>
                </a:solidFill>
                <a:uFillTx/>
                <a:latin typeface="Times New Roman"/>
                <a:hlinkClick r:id="rId3"/>
              </a:rPr>
              <a:t>http://asimov.coehs.uwosh.edu/~cramer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earch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her, J. 1998. The link to higher scores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ducation Wee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[Online]. Available </a:t>
            </a:r>
            <a:r>
              <a:rPr b="0" lang="en-US" sz="1200" spc="-1" strike="noStrike" u="sng">
                <a:solidFill>
                  <a:srgbClr val="2b4099"/>
                </a:solidFill>
                <a:uFillTx/>
                <a:latin typeface="Times New Roman"/>
                <a:hlinkClick r:id="rId1"/>
              </a:rPr>
              <a:t>http://www.edweek.org/sreports/tc98/ets/ets-n.ht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accessed 9/29/03) now available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http://counts.edweek.org/sreports/tc98/ets/ets-n.ht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accessed 8/5/05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EO Forum School Technology and Readiness Report: Year 4. 200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y building blocks for student achievement in the 21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century: Assessment, alignment, accountability, access, analysi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uthor. [Online]. Available: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ceoforum.org/downloads/report4.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man, S., Cole, K., &amp; Syer, C. 1999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he technology/content dilemm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Online]. Available: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ed.gov/Technology/TechConf/1999/whitepapers/paper4.htm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Cited in North Central Regional Educational Laboratory. 1999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ritical Issue: Using Technology to improve student achievem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Author. [Online]. Available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ncrel.org/sdrs/areas/issues/methods/technlgy/te800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in, D. &amp; Arafeh, S. 2002. The Digital Disconnect: The Widening Gap Between Internet-Savvy Students and Their Schools. Accessed 1/7/05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pewinternet.org/pdfs/PIP_Schools_Internet_Report.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th Central Regional Educational Laboratory 1999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ritical Issue: Using Technology to improve student achievement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uthor. [Online]. Available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ncrel.org/sdrs/areas/issues/methods/technlgy/te800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eves, T. C. 1998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he impact of media and technology in schools: A research report prepared for The Bertelsmann Found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Available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athensacademy.org/instruct/media_tech/reeves0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ngstaff, C. and Kelley, L. 2002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he Learning Return On Our Educational Technology Investment: A Review of Findings from Resear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WestEd RTEC. [Online]. Available: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WestEd.org/online_pubs/learning_return.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dez, G., McNabb, M. Foertsch, Anderson, M. Hawkes M., &amp; Raack, L. 2000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omputer-based technology and learning: Evolving uses and expectation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hase III: Data_Driven Virtual Learning. (page 8 of 10) Accessed 6/3/05. [Online]. Available: (full report)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ncrel.org/tplan/cbtl/toc.ht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xman, H. C., Lin, M-F, Michko, G.M. 2003. A meta-analysis of the effectiveness of teaching and learning with technology on student outcomes. Learning Point Associates. Accessed 3/21/05. [Online]. Available: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ncrel.org/tech/effects2/waxman.pd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englinsky, H. 1998. </a:t>
            </a:r>
            <a:r>
              <a:rPr b="0" i="1" lang="en-US" sz="1200" spc="-1" strike="noStrike">
                <a:solidFill>
                  <a:srgbClr val="333333"/>
                </a:solidFill>
                <a:latin typeface="Times New Roman"/>
              </a:rPr>
              <a:t>Does it compute? The relationship between educational technology and student achievement in mathematics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. Princeton, NJ: Educational Testing Service. Retrieved August 5, 2005 from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ftp://ftp.ets.org/pub/res/technolog.pdf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429000" y="632448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b4099"/>
                </a:solidFill>
                <a:uFillTx/>
                <a:latin typeface="Times New Roman"/>
                <a:hlinkClick r:id="rId1"/>
              </a:rPr>
              <a:t>http://www.si.umich.edu/chico/instrument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7899120" cy="1879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banner2"/>
          <p:cNvPicPr/>
          <p:nvPr/>
        </p:nvPicPr>
        <p:blipFill>
          <a:blip r:embed="rId3"/>
          <a:stretch/>
        </p:blipFill>
        <p:spPr>
          <a:xfrm>
            <a:off x="609480" y="2082960"/>
            <a:ext cx="2374920" cy="4775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_x000c_strn_376.gif                                                   000101A4_x000c_Macintosh HD                   B7C7A181:"/>
          <p:cNvPicPr/>
          <p:nvPr/>
        </p:nvPicPr>
        <p:blipFill>
          <a:blip r:embed="rId4"/>
          <a:stretch/>
        </p:blipFill>
        <p:spPr>
          <a:xfrm>
            <a:off x="3886200" y="2743200"/>
            <a:ext cx="1496880" cy="1346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&#13;strn_1043.gif                                                  000101A4_x000c_Macintosh HD                   B7C7A181:"/>
          <p:cNvPicPr/>
          <p:nvPr/>
        </p:nvPicPr>
        <p:blipFill>
          <a:blip r:embed="rId5"/>
          <a:stretch/>
        </p:blipFill>
        <p:spPr>
          <a:xfrm>
            <a:off x="5562720" y="2438280"/>
            <a:ext cx="3200400" cy="1258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_x000c_strn_780.gif                                                   000101A4_x000c_Macintosh HD                   B7C7A181:"/>
          <p:cNvPicPr/>
          <p:nvPr/>
        </p:nvPicPr>
        <p:blipFill>
          <a:blip r:embed="rId6"/>
          <a:stretch/>
        </p:blipFill>
        <p:spPr>
          <a:xfrm>
            <a:off x="5181480" y="4419720"/>
            <a:ext cx="221004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1"/>
          <p:cNvSpPr/>
          <p:nvPr/>
        </p:nvSpPr>
        <p:spPr>
          <a:xfrm>
            <a:off x="304920" y="1828800"/>
            <a:ext cx="8534160" cy="4800600"/>
          </a:xfrm>
          <a:prstGeom prst="rect">
            <a:avLst/>
          </a:prstGeom>
          <a:solidFill>
            <a:srgbClr val="bbe0e3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457200" y="15228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erials should be short in duration, 2-15 minutes in length, and should be used to support the understanding of a concept or proces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400800" y="2133360"/>
            <a:ext cx="1905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le… a short video clip of how hydrogen fuel cells work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9" descr="_x0013_fuel-cell-parts.jpg                                            000101A4_x000c_Macintosh HD                   B7C7A181:"/>
          <p:cNvPicPr/>
          <p:nvPr/>
        </p:nvPicPr>
        <p:blipFill>
          <a:blip r:embed="rId1"/>
          <a:stretch/>
        </p:blipFill>
        <p:spPr>
          <a:xfrm>
            <a:off x="533520" y="2077920"/>
            <a:ext cx="5562360" cy="41706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0"/>
          <p:cNvSpPr/>
          <p:nvPr/>
        </p:nvSpPr>
        <p:spPr>
          <a:xfrm>
            <a:off x="6541920" y="6324480"/>
            <a:ext cx="2184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2b4099"/>
                </a:solidFill>
                <a:uFillTx/>
                <a:latin typeface="Times New Roman"/>
                <a:hlinkClick r:id="rId2"/>
              </a:rPr>
              <a:t>http://science.howstuffworks.com/fuel-cell2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0948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may also include reference articles, statistical data, or first person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" y="1676520"/>
          <a:ext cx="7620120" cy="371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762012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Rectangle 8"/>
          <p:cNvSpPr/>
          <p:nvPr/>
        </p:nvSpPr>
        <p:spPr>
          <a:xfrm>
            <a:off x="-18360" y="6643800"/>
            <a:ext cx="3177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ttp://www.census.gov/population/www/socdemo/migrate/cps2004.htm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0" descr=""/>
          <p:cNvPicPr/>
          <p:nvPr/>
        </p:nvPicPr>
        <p:blipFill>
          <a:blip r:embed="rId3"/>
          <a:stretch/>
        </p:blipFill>
        <p:spPr>
          <a:xfrm>
            <a:off x="6095880" y="3200400"/>
            <a:ext cx="2722680" cy="3505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"/>
          <p:cNvPicPr/>
          <p:nvPr/>
        </p:nvPicPr>
        <p:blipFill>
          <a:blip r:embed="rId4"/>
          <a:stretch/>
        </p:blipFill>
        <p:spPr>
          <a:xfrm>
            <a:off x="3657600" y="5029200"/>
            <a:ext cx="147492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7086600" cy="1735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4641840" y="1371600"/>
            <a:ext cx="4502160" cy="49528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3429000" y="6400800"/>
            <a:ext cx="6019920" cy="10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b4099"/>
                </a:solidFill>
                <a:uFillTx/>
                <a:latin typeface="Times New Roman"/>
                <a:hlinkClick r:id="rId3"/>
              </a:rPr>
              <a:t>http://ellisisland.org/immexp/wseix_2_3.a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4"/>
          <a:stretch/>
        </p:blipFill>
        <p:spPr>
          <a:xfrm>
            <a:off x="533520" y="2362320"/>
            <a:ext cx="3657600" cy="24145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8"/>
          <p:cNvSpPr/>
          <p:nvPr/>
        </p:nvSpPr>
        <p:spPr>
          <a:xfrm>
            <a:off x="533520" y="51814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nd how did your family arrive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866920" y="6171840"/>
            <a:ext cx="3505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b4099"/>
                </a:solidFill>
                <a:uFillTx/>
                <a:latin typeface="Times New Roman"/>
                <a:hlinkClick r:id="rId1"/>
              </a:rPr>
              <a:t>http://www.ushmm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3681360"/>
          </a:xfrm>
          <a:prstGeom prst="rect">
            <a:avLst/>
          </a:prstGeom>
          <a:ln w="0">
            <a:noFill/>
          </a:ln>
        </p:spPr>
      </p:pic>
      <p:sp>
        <p:nvSpPr>
          <p:cNvPr id="83" name="Line 7"/>
          <p:cNvSpPr/>
          <p:nvPr/>
        </p:nvSpPr>
        <p:spPr>
          <a:xfrm>
            <a:off x="7924680" y="60199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380880" y="4038480"/>
            <a:ext cx="4191120" cy="31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 to the Holoca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ocaust Encyclop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Genoci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l His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ping the Holoca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ine Exhib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4800600" y="4392720"/>
            <a:ext cx="2971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eum Exhib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veling Exhib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ola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22:06:54Z</dcterms:created>
  <dc:creator>College of Education &amp; Human Services</dc:creator>
  <dc:description/>
  <dc:language>en-US</dc:language>
  <cp:lastModifiedBy>College of Ed. &amp; Human Svcs</cp:lastModifiedBy>
  <cp:lastPrinted>2006-03-02T21:55:10Z</cp:lastPrinted>
  <dcterms:modified xsi:type="dcterms:W3CDTF">2010-10-13T14:55:56Z</dcterms:modified>
  <cp:revision>94</cp:revision>
  <dc:subject/>
  <dc:title>Learning Objects  to Enrich Your Classroom</dc:title>
</cp:coreProperties>
</file>